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0C34F-2BDA-440A-9FB2-612C4050D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71923-88FA-4F67-813C-64B8A7464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10BA1-14B3-4F96-81FC-ED6555647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B7B31-5919-4BD9-9BA9-D8FDE447F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C597C-E4AD-44C3-8428-F587F73EA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93B88-3DD5-47D0-8673-6BD4E2CCE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4F960-F2B5-4F79-ABB4-5D6DF082D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80955-F59A-418A-B8A2-EF04FFC07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BE61E-A74F-457F-80A6-118965FFB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E0F8E-D51D-4855-8F79-D4468D3C6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55C4F-7EAA-424C-9D7F-2B311380D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5C092-513C-4C0E-BEC8-E27BDDE7C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8E5E0-6E04-4DE5-8B07-853D286C301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11:49:47Z</dcterms:created>
  <dc:creator/>
  <dc:description/>
  <dc:language>en-US</dc:language>
  <cp:lastModifiedBy>Alexey Zhilin</cp:lastModifiedBy>
  <dcterms:modified xsi:type="dcterms:W3CDTF">2009-01-26T12:06:22Z</dcterms:modified>
  <cp:revision>7</cp:revision>
  <dc:subject/>
  <dc:title>Slide 1</dc:title>
</cp:coreProperties>
</file>