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09226-325E-4C74-9576-F6B71AB5E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39762-ED90-462A-8009-D48453479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BA52F-C639-4786-BA25-41A990580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B6843-9ACD-4F96-859C-B3D98495A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E2739-EAB3-4266-87D6-545C9C419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D0111-0215-4136-9C58-06B5B6273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499EE-C241-4F99-A2DC-94F0055F8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E7F19-BAAE-4A0E-BEB0-CC68A80FA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9A328-EDE3-4AA0-BD0E-4099016B7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1B40E-1A10-4DA1-B3A4-F44800660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10BFC-30D4-4887-9464-81F5E46BE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C14DD-9692-4DF0-9FE8-2CC696B66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2A0ED-3CFC-4CB4-83E2-866403C7DA2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11:49:47Z</dcterms:created>
  <dc:creator/>
  <dc:description/>
  <dc:language>en-US</dc:language>
  <cp:lastModifiedBy>Alexey Zhilin</cp:lastModifiedBy>
  <dcterms:modified xsi:type="dcterms:W3CDTF">2009-01-26T12:06:22Z</dcterms:modified>
  <cp:revision>7</cp:revision>
  <dc:subject/>
  <dc:title>Slide 1</dc:title>
</cp:coreProperties>
</file>