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B1F71-B1E9-4583-BF03-AA7F17658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95611-DC61-43AE-B408-0BB88E4EA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6D9DA-D1C4-4FC2-B68C-415AC5082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E45AE-1692-455B-9650-8A1C375D5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5601C-7C4A-4B3F-B948-F57749412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99455-B799-4786-9111-271A2B70F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2CB2B-733C-4DD4-BE50-9C2B9F8B2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9E193-EA6A-40C4-9371-972B686C1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BECFE-D5C6-450B-9A9F-DB7626C35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6B603-01D3-4A5F-AC83-0217227BB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3FA93-2A9F-4775-A52E-F8AE7817D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082C7-79C1-40A5-B433-0CC0A5792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B9F96-C74B-4046-8C59-BDF07450E5F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11:49:47Z</dcterms:created>
  <dc:creator/>
  <dc:description/>
  <dc:language>en-US</dc:language>
  <cp:lastModifiedBy>Alexey Zhilin</cp:lastModifiedBy>
  <dcterms:modified xsi:type="dcterms:W3CDTF">2009-01-26T12:06:22Z</dcterms:modified>
  <cp:revision>7</cp:revision>
  <dc:subject/>
  <dc:title>Slide 1</dc:title>
</cp:coreProperties>
</file>