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1EB-2711-4946-96E4-C6B27CAA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B02-4326-4EBD-9E12-D108A23C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7F3-5A91-4CA6-9AAE-A9519DCC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AD57-CCE5-4027-990B-BBA9E280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4E07-994A-4C96-BC64-34ECE8D7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D6FD-4081-4AB9-BB98-4B36BC06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321E-C780-484F-AFF7-C1C1E1A4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D697-9498-4791-8A21-42F8E106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3590-C015-4105-80C9-E822008F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8EB2-B591-4A59-8002-0ED7B676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1D91-4DE4-45E0-8132-AD4F4CB7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FAB-9C05-4B02-97BD-EBBBC56E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CDE0-AB18-482A-9829-A48CA151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D445-4A4C-43AE-A125-AF1CFF65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7586-B915-4710-8C25-2607A86B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1497-ECB1-4CB4-8336-F3760A3E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04CA-1E53-44FE-AEB0-1206D04E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292D8-4EF8-4E6A-888E-977A3CB3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53BAD-8889-49DA-A24D-A2CB7C4F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DA1E9-CDDD-4432-85EF-E6E4AB7A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2F3E-569F-461A-A9E3-DF3BC5DD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3E72-F9C4-4D22-94F1-B6DA3675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526-A063-465C-AE2C-A03F2D8C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BD649-CBCD-47BA-9FE2-E6E45524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EAF39-1599-403B-9750-D90A7B9A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A835D-59FB-4627-8148-65E28FCE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20A79-60EB-4A19-9D85-B2AE5314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E2E6A-B9F8-404A-82F0-ADF7957B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98F9D-5184-4501-A33A-7F4FAC11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99799-57A4-4A0E-B23B-5EE0DABA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95214-A18B-4A81-98DC-B4E8A968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11A0C-DBEC-4E8E-9509-8C6A1F2E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0FAFF-EB2E-4E77-8667-329556BB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B7B-8DA9-45CD-B70D-044100AC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650BD-F9F6-433F-88B1-A667B728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D2E81-8FD4-4FFD-BE98-E3D4398C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32EBD-E03F-481B-B689-B1D7FD4C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07D7F-579A-4D39-B38E-E00BE1DE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A6F38-43E2-49F2-80B2-E6A9D649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CA563-2523-4D60-B76C-78AB7741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0AAFB-A570-4653-A934-7EEFFCF9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47D74-3D46-44A1-A55C-63BC4746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D23E1-7F74-461C-9728-6D0A160A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29B-D8AF-4D0E-8C4E-2073AE65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97C-95A1-4A00-A02F-9502D1FB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F76-8160-4674-AFC9-4F9111AF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796-A8B4-4517-BF9F-13547A82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FBA-36CE-45F4-8BB1-79ADEF0A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9C9D-6A93-465E-BD22-9E989BD5A74A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AF7E-4C94-459E-BDBE-106CD3BDE5E9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0565-589D-48D6-A671-B391731FE229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ED65-1BAB-424C-A045-B6F01DDA3524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esting Tika Format Pars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is a test document to ensure that we (naming no names) hasn't broken the Tika format parser ag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rangely it seems that if Tika is broken then the GATE document is created without </a:t>
            </a:r>
            <a:r>
              <a:rPr b="0" lang="en-GB" sz="2600" spc="-1" strike="noStrike">
                <a:solidFill>
                  <a:srgbClr val="ff0000"/>
                </a:solidFill>
                <a:latin typeface="Constantia"/>
              </a:rPr>
              <a:t>error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but with no content which is a </a:t>
            </a:r>
            <a:r>
              <a:rPr b="0" i="1" lang="en-GB" sz="2600" spc="-1" strike="noStrike">
                <a:solidFill>
                  <a:srgbClr val="000000"/>
                </a:solidFill>
                <a:latin typeface="Constantia"/>
              </a:rPr>
              <a:t>bi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f a p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3:24:47Z</dcterms:created>
  <dc:creator>Mark A. Greenwood</dc:creator>
  <dc:description/>
  <dc:language>en-US</dc:language>
  <cp:lastModifiedBy>Mark A. Greenwood</cp:lastModifiedBy>
  <dcterms:modified xsi:type="dcterms:W3CDTF">2012-01-16T13:26:56Z</dcterms:modified>
  <cp:revision>1</cp:revision>
  <dc:subject/>
  <dc:title>Testing Tika Format Parsers</dc:title>
</cp:coreProperties>
</file>