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625-BC1D-4D38-ADFB-BC32ED7E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182C-C7A6-41EB-A6AE-3DF281C7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BB8A-1EA1-40A9-BD94-7C9291D7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7285-59AD-4DDF-84AD-D603E45D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D505-B15F-4B50-8E85-9B0ED391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8CBD-E354-43FE-88DF-A934385A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67D6-533D-4CDD-BF23-B6A34125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CF92-C994-4C53-BD29-79C6E2E2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013B-9D2D-4711-B461-2F4CAC61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2659-0221-4C0C-8852-733C3A67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0B0A-7DB5-4D68-8BEE-0C9BA7CE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A6A5-BBFC-459E-9FD1-1A5D3ED2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F20B-2FC1-4CD3-843C-F0B3670D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701A-E126-4524-9C39-80DB69FA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17A8-32FB-476B-BEDB-56BAD3AA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64F9-7D6C-416C-A76A-E7F9B31E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8390-1004-4BCE-9360-9DF5DF46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15A1F-D24B-4393-9C22-4DBA5D3B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EC062-FF7C-4CCA-B611-EE4601D0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D6BD4-1B69-4F07-82FB-35ADD270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4D110-24B1-420D-A288-9F167BE4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4A400-304B-44FA-81E7-ECAAFE6E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F675-1255-420B-AB36-75E53499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411D8-6742-4EE9-B38B-18B8C887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558E1-C3E4-4BED-9417-DE22B3DD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A949C-72E3-4279-8165-5A8CF698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E6A8F-7719-47CF-98CA-F924C34A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D6635-E3F4-41F6-AE18-16D44130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F42AB-280F-4796-B597-0F028692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D782F-4F82-467E-9C94-93716751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BE9BA-6E52-419D-B805-095E42BF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25E93-ECD5-4F4A-90A1-57A00A1A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ACA25-2D33-428F-8A94-8B3B3E60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FE79-5EDE-4CE8-853B-FCCC09AF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F8BC7-9D43-4502-8530-B5061AB4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BEC18-C7C3-49A9-8DB5-90A894E7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6313F-5E7C-4536-8956-A6F31B58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76618-2E54-4790-9164-D94F34F2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9209F-688F-464E-AA45-F15B3EF6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29F47-3113-4CF1-B39E-537B7458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DD087-F0AC-43F5-A531-22A5E12E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D197E-EB48-4286-9608-C320812C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09257-7A4A-49BD-A2A8-D88001C5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37EC-BAAB-4764-8F0C-7E70E74E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ABC8-BD4D-48BD-81A3-4DDBA059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4E9E-95CA-4C15-8B5B-A6BA2EAB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CF00-1D2B-4697-9144-0569741D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FA2-A16A-4E3E-AA75-77C348B7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DCDE-C025-46DA-82D7-74AA73E55CC0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4560-39B3-4A97-B554-02BA48F572DF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779C-7331-45D6-A444-50D9C11FFC58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E748-C052-400D-9DD3-B368C38F201E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esting Tika Format Pars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is is a test document to ensure that we (naming no names) hasn't broken the Tika format parser agai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trangely it seems that if Tika is broken then the GATE document is created without </a:t>
            </a:r>
            <a:r>
              <a:rPr b="0" lang="en-GB" sz="2600" spc="-1" strike="noStrike">
                <a:solidFill>
                  <a:srgbClr val="ff0000"/>
                </a:solidFill>
                <a:latin typeface="Constantia"/>
              </a:rPr>
              <a:t>error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but with no content which is a </a:t>
            </a:r>
            <a:r>
              <a:rPr b="0" i="1" lang="en-GB" sz="2600" spc="-1" strike="noStrike">
                <a:solidFill>
                  <a:srgbClr val="000000"/>
                </a:solidFill>
                <a:latin typeface="Constantia"/>
              </a:rPr>
              <a:t>bit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of a pai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3:24:47Z</dcterms:created>
  <dc:creator>Mark A. Greenwood</dc:creator>
  <dc:description/>
  <dc:language>en-US</dc:language>
  <cp:lastModifiedBy>Mark A. Greenwood</cp:lastModifiedBy>
  <dcterms:modified xsi:type="dcterms:W3CDTF">2012-01-16T13:26:56Z</dcterms:modified>
  <cp:revision>1</cp:revision>
  <dc:subject/>
  <dc:title>Testing Tika Format Parsers</dc:title>
</cp:coreProperties>
</file>